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CF9-708B-4730-8982-C1331CF0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874-1E42-4F7B-862E-50E4D81A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169-C28A-4038-8F84-C63245BE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357-AA16-4B26-862C-503282F4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F43-B550-46D8-9242-2171E030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B12-BFFA-41DF-AAFE-0A20F21B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7DC-A2D8-42DA-8807-B0D0054A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D6B-E8F3-45D4-B92C-D3E074B0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135-CE93-4D75-AFA6-EA89343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7EA-57E1-44F0-8AF8-A47CE89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DE6-063C-453F-BED0-8CAD2678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ACC-C311-4E44-B594-AA2BDFDC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3CA3-C438-4A06-AF62-2173120B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2:10:09Z</dcterms:created>
  <dc:creator>Irving ISD</dc:creator>
  <dc:description/>
  <dc:language>en-US</dc:language>
  <cp:lastModifiedBy>Irving ISD</cp:lastModifiedBy>
  <dcterms:modified xsi:type="dcterms:W3CDTF">2008-04-27T22:10:25Z</dcterms:modified>
  <cp:revision>1</cp:revision>
  <dc:subject/>
  <dc:title>Slide 1</dc:title>
</cp:coreProperties>
</file>